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128-1EF0-4234-BA55-9D601739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F92-6416-456A-8D40-90A1C14E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5CA-13DD-4EA9-BF62-B72E200A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6A3-D792-4571-925B-16F0EB2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8EFE-9C47-42BB-A8F2-8D01AAD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D596-7A89-4826-9B7A-3E2ED85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8B3-21DB-4384-8DAC-22C0DFA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7B1C-532F-4080-B915-B5C2A6F6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683F-E7B4-44F7-AFB7-B38ECBCB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3A3-5539-492D-94FD-6C82C3FF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4227-E9CE-4F53-9805-0F5083E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0EE-E8AF-4F54-B50F-714F4A0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58B3-3CCD-4092-909F-BEC49C3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BEC-5858-4C0E-959E-DCB704C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FD9-10C6-435B-8014-0AE3447B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B53-1D85-4546-851B-672D66B7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8C1-4660-4FAB-8D92-2BE7368C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DF1-FEA5-45BB-ADFD-1C77CF5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BBA-BE1D-4B00-9F4F-56316B66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DFA-B7DD-4762-8084-3615D0D7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E44-9C0E-4DCC-BA00-E89E0FF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2BD-18C1-44DD-8FD9-98DE32B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924-6589-42C5-AF1C-DF921C0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DEA-793E-41AD-99D0-4F0F605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D876-2DF6-4BF8-8A97-B245C19206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45B-85DE-4B7D-8BD2-4EBE0F0856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uesday, May 13th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4800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iz tomorrow on 3.1 to 3.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52480" y="2590920"/>
            <a:ext cx="5791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24 G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Lesson 3.4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ll if a number is a solution to an equation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x+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1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2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2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en solving an exponential equation, it might be helpful to rewrite it as a log (or vice versa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v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2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 x = -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4 + 3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ignment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ge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(and partner quiz tomorrow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1:04Z</dcterms:created>
  <dc:creator>jnewman</dc:creator>
  <dc:description/>
  <dc:language>en-US</dc:language>
  <cp:lastModifiedBy>jnewman</cp:lastModifiedBy>
  <dcterms:modified xsi:type="dcterms:W3CDTF">2008-05-12T12:09:06Z</dcterms:modified>
  <cp:revision>7</cp:revision>
  <dc:subject/>
  <dc:title>Lesson 3.4</dc:title>
</cp:coreProperties>
</file>